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C93-0479-4C25-81FF-0A1E051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16A-CFD8-4BA8-946A-55090DD7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7B3-E1DC-4FEC-BE1A-C4810D89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701-D582-43EE-ABCC-49D353E1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9ED-3DB1-4EAD-BC59-DBBAE2C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574-7720-488B-9A9D-DD2895CD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1A2-7A45-4E23-A816-AF2B611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85F-4A8B-49DD-BB38-AB9FD4EA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FB7-0222-44F8-B347-5129C048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E04-9BF3-43EB-803C-5BC5342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D7A-5E4F-43A4-BF87-A0EB4666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3DD-FD56-4D88-9D96-62DCCFF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18FF-E120-4C1E-85F3-B5E31AE0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" y="52560"/>
            <a:ext cx="9013680" cy="561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0000" y="4797360"/>
            <a:ext cx="734400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Zabezpečovací za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: Jan Potuž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vrh elektronického zabezpečovacího systému (dále jen EZS) je v základu stejný pro různé druhy objektů.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ZS se liší především počtem detektorů, které střeží hlídané pro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otlivé prvky EZ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stře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áves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ktor / detek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é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(„Klíčenka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Ústředna – hlavní část EZS – může v ní být zabudován GSM komunikátor, což je zařízení, které uživatelům (4 až 8) při poplachu zašle SMS zprávy s popisem události a prozvoní je. Díky GSM komunikátoru je také možné systém na dálku ovlád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ávesnice – slouží pro ovládání a nastavování ústředny. Je zcela oddělená od ústředny. Při jejím zničení pachatelem nedojde k poškození EZS, ale dojde k vyvolání popla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ktor / detektory – podle možných rizik napadení se instalují do střežených místností detektory. Druhy detektor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ktory pohybu PIR (pasivní IR detek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ktory otevření dveř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ktory tříštění sk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ktory kouře a ply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réna – aktivuje se při poplac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itř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ě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íčenka – slouží k dálkovému vládání (jako dálkové zamykání osobního automobil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y ochran pomocí EZS – prostorová (detektory pohybu) a plášťová (detektory otevření dveří, tříštění skla). Lze je kombinov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ální konfigurace EZ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tředna, klávesnice, det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44720" y="115920"/>
            <a:ext cx="6983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blotron -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1197000"/>
          <a:ext cx="8147160" cy="452124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SiS 868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 433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rátov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ůže hlásit vloupání, požá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ládání spotřebičů na dálku, řízení topení, zapínání spotřebičů detektorem pohybu, detektorem otevření nebo dálkovým ovladač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ybové se zabudovanou kamer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ybov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ládání mobilním tel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en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detektorů / prvk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pto – větší ne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 (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í třeba antén na povrch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ypto – až 100 m (antény na povrch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áj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iové baterie – životnost cca 3 r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cké baterie – životnost cca 1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74680"/>
          <a:ext cx="8229600" cy="206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SiS 868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 433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tavení Z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+ USB / 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+ USB / 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N EN 50131-1 do stupně 2 (nízká až střední rizik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N EN 50131-1 do stupně 2 (nízká až střední rizik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ování až 8 uživatelům formou SMS o poplachu a také o příchodu / odchodu ostatních uživatel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ování až 8 uživatelům formou SMS o poplachu a také o příchodu / odchodu ostatních uživatel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68360" y="4149720"/>
            <a:ext cx="828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 prvky zabezpečovacího systému je při prokázané montáži certifikovaným technikem poskytována záruka 2 roky a prodloužení doby bezplatné opravy výrobku v servisu Jablotron na 5 l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z montáže certifik. technikem nebude zabezpečovací systém akceptován pojišťov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979640" y="260280"/>
            <a:ext cx="5472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C - K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717480"/>
          <a:ext cx="8209080" cy="5926320"/>
        </p:xfrm>
        <a:graphic>
          <a:graphicData uri="http://schemas.openxmlformats.org/drawingml/2006/table">
            <a:tbl>
              <a:tblPr/>
              <a:tblGrid>
                <a:gridCol w="2735280"/>
                <a:gridCol w="2738520"/>
                <a:gridCol w="273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xor 433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1616 433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rátov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ůže hlásit požá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ládání spotřebičů na dálku, řízení topení, zapínání spotřebičů detektorem pohybu, detektorem otevření nebo dálkovým ovladač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ybov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ybov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ládání mobilním tel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en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6 ku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6 ku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detektorů / prvk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ž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yp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yp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áj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eticky uzavře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věný akumul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eticky uzavře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věný akumul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ré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rátová ze s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átová (možno i od jiného výrob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tavení Z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-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-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ování až 4 uživatelům formou SMS o poplac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ování až 4 uživatelům formou SMS o poplac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79640" y="260280"/>
            <a:ext cx="5472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ens - S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717480"/>
          <a:ext cx="8209080" cy="5765760"/>
        </p:xfrm>
        <a:graphic>
          <a:graphicData uri="http://schemas.openxmlformats.org/drawingml/2006/table">
            <a:tbl>
              <a:tblPr/>
              <a:tblGrid>
                <a:gridCol w="2735280"/>
                <a:gridCol w="2738520"/>
                <a:gridCol w="273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ony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rátov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ůže hlásit požá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ládání spotřebičů na dálku, řízení topení, zapínání spotřebičů detektorem pohybu, detektorem otevření nebo dálkovým ovladač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ybov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ládání mobilním tel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en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 se čtečkou IAR6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detektorů / prvk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yp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áj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eticky uzavře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věný akumul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ré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ze vnitřní, venkovní se pro tento systém nevyrá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tavení Z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k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en s modulem GSM 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5075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akonec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trapy bezpečnostních systém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ízká c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soká účinnost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ní nutná instalace rozvod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ízké nároky na montáž prvk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bránění prvotním škodám při vloupá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jen aby…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na závěr porovnání c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n.: Ceny jsou stanoveny pro sestav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ks ústředny / případně 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ks klávesnice (není-li součástí kit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 ks PIR detektoru (pasivní IR pohybové čidlo) není-li součástí ki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ks magnetického kontaktu (montáž na dveře) není-li součástí ki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ks siré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997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4387680"/>
          <a:ext cx="8064360" cy="2068560"/>
        </p:xfrm>
        <a:graphic>
          <a:graphicData uri="http://schemas.openxmlformats.org/drawingml/2006/table">
            <a:tbl>
              <a:tblPr/>
              <a:tblGrid>
                <a:gridCol w="1344600"/>
                <a:gridCol w="1342800"/>
                <a:gridCol w="1344600"/>
                <a:gridCol w="1344600"/>
                <a:gridCol w="1343160"/>
                <a:gridCol w="134460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blotron - PROFI 4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blotron - OASiS 868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 – Alex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 - Power 1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 - Sintony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bližná cena s D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29,-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42,-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18,-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9,-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50,-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,-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x k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 siré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x PIR detek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utno počítat s dodatečnými náklady na záložní akumulátor a zbudování přípojky 230 V, 50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4:27:20Z</dcterms:created>
  <dc:creator>Johnny</dc:creator>
  <dc:description/>
  <dc:language>en-US</dc:language>
  <cp:lastModifiedBy>Johnny</cp:lastModifiedBy>
  <dcterms:modified xsi:type="dcterms:W3CDTF">2011-04-16T08:46:11Z</dcterms:modified>
  <cp:revision>118</cp:revision>
  <dc:subject/>
  <dc:title>Snímek 1</dc:title>
</cp:coreProperties>
</file>